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9C3-F5AA-4122-963E-2F2CBCEE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3C6-B139-4108-AE2B-22D035E3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D8D1B-4DE0-458D-BCA9-B3B1ED3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7F66E-2549-4034-A9F8-6EBAA1DD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AB459-6EA6-4F15-91F1-8D2B94C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6F567-E76B-4143-AFFC-5EB52FB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283E-95DB-4F74-A0FB-75ED5E1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BCA9-37D6-4196-A351-1A22DC7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C9D07-6B10-48BB-9BE8-0512640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D0D5-F626-4576-9989-F1C034F7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12A1-697B-42D2-BB58-07236230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43CF-3357-4E62-ABA3-8F0D4C3A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5A2-D90E-4067-8C62-1D5447D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2B76-4B69-4714-9A7F-10E8483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9D499-9F10-4D97-A684-68C817D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A5BD9-994E-4A3F-868B-15BA1B6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A5B26-603B-445B-9837-9F244A0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75CB-5DCE-4A57-BBA9-1208F9B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CFAD-8E2C-4C84-A805-5A90792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4EC90-0300-4628-A474-387C4C5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C69B7-B542-47A7-9132-57E2E30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5F307-1210-4059-BC43-47514994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E5816-D560-45BE-AEF0-43D28207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500-E3E2-49BE-B360-4405EC8F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FA851-8B24-4925-A2B2-8B1DD026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1939F-BC53-4E09-81F1-812EBE9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436F9-090C-4EE0-A86B-A799DE6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9EB0-72B2-4F62-85FB-BB696FD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6C492-0BDA-4368-A641-B42BECA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DB47-D49E-4FE7-B315-6DEA4CF5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31473-7129-4819-B640-28942D0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6B69F-A2C9-4DAD-8A52-7FA74EA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76825-7289-4D3E-8945-23730D8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E75A7-370D-440B-A92A-4489BC0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C658-DB14-4D12-9780-638F8E55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EAC5C-011B-4079-90CE-98241B5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095B4-E69E-4910-BC68-A5E7003D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1ED9E-CD51-4251-860F-C6632F15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60311-AEA5-4E74-BCAE-23AA8658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D96B-6C9B-46EE-9512-1148791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46884-17D9-4BB4-A3CD-68D2FE2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3C5AE-B105-4E08-91B9-F2E5F126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CB3F9-8CDA-4808-8039-6740A6B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386E7-3CD8-49E9-ADF5-E30834F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2384B-A665-4832-8C20-3F5A476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86C-F91C-4A2C-B720-A6027F4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36026-E2DF-4E8F-AFEC-9F547AC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E3325-D38C-4D76-A58E-3B7E0BE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FB612-3017-4BFD-8AFF-B2AFD7C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4D3B5-B0E6-490E-A7DA-00036A9A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90FDD-39DA-435D-8B3F-75AC810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4AD59-51DB-4B8F-90D1-30763E65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47933-2122-4037-A04F-E3B74EF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A9B17-7195-458E-96C8-D869787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25D7C-9795-4DF9-BEF7-16978FF2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287D4-9BD6-42AE-95CD-00028E42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DBAD-71C7-4B5B-830E-63B3D3F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FB621-E7E2-4617-9813-143651E7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A52E4-49A6-4BE8-AF75-0D1CD9C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7961A-599B-4162-AD3E-9BD97C8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C47E8-8703-42D4-BD0D-0FB91B4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1B8C2-8945-455E-B1EF-172BA6B1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542A7-92FB-4585-8D5D-3DE6F822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2052E-AE79-4BA2-A637-8BD5F94C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84796-D682-4AFC-ACF1-01A3B8E0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5B2A6-F0D1-4F29-8C3C-5FA1FE0F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1E692-91FD-4E24-B56D-FF4452E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08D-AA38-4856-80AC-0F8CB93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17BB5-C6A4-4A4A-8C5E-1900E52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574F7-A092-403D-B83C-B8B25A31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564FF-5D71-4304-9C75-301A6E6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0D0E4-3554-499D-8766-9FC43E6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1273F-216E-4889-9296-46FF4CC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35659-C047-4F53-B26E-E4CD966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9DFA9-0D8E-4A02-B58A-CEA8182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CB035-D340-4208-A941-12F79B78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B6269-70AE-49F5-95EA-592441A8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1E6FA-54AE-4008-A19E-567EA1EA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F75-1F44-498F-B472-0407155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BF2FD-0411-48EF-99DE-9CF55E4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16CD8-6515-4234-9C18-C0BCAD4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1ED19-6FB0-40B8-95F5-FC6B585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0EF95-9B37-42A8-869B-6F97C75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314EA-0A5C-4AF4-9909-27BAD354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E1605-161D-4C25-B0A2-00107E4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47969-3749-4C65-8942-88E25EC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DF048-0EFF-4EBF-B00F-1D3A8A4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2156E-9562-42A8-8F13-6B975BC0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CBC23-3649-49BC-B8DD-ED36C144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E3B-7F9F-4FA0-87DE-6A0F089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C3B4A-B5CD-41ED-9C2E-70E9372B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95CED-4224-499C-972B-248BDFF9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F2ADF-BB5F-41F0-A996-B5F6281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A17F0-AA0A-4F4F-B600-9E02F21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29952-E7AF-4F7D-A801-6D78B05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06FC8-A4A6-4724-AA5B-DC3EA369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C3ABA-7440-467D-BB0D-A4E7F69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FCA8A-34D2-4960-95F7-B1A09DE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38506-60BB-46B8-A2A0-225A5C0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72556-C1C0-49B4-A073-A3FC416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5DC4-315F-4530-9973-BB512FA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3322C-C63E-4009-9360-B104663E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4B624-83FC-42A4-83FD-49E82427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38393-BAB1-46AC-884C-6E3E20F5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8A244-E11B-437E-8287-776DFEE5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9427D-816F-452D-82F9-682F7B9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F7DE0-99FD-4D9D-9CC5-F71C4B5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D7F75-16DB-434C-A642-DF5B58E1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5A5A5-DB37-46E9-9045-57B5931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9FEB2-F0FE-4276-A240-80D713EB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A40CB-E227-4572-A28F-59FB681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090-DB83-4CFB-8741-EBBC14A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F0B-C31B-4BD5-BFE8-B3190F0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F2EFD-94CD-45FB-9012-F9F2D03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497B2-9023-462B-B728-50F9BDB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F44FD-6FE1-4AE5-802F-5B5CD16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02A3B-9653-41FD-960F-AE72CB0D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B2FF3-2B69-4CCE-9533-0097F3A1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55C35-ED98-4DB5-B9D8-CCBF75B0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0FE74-AEC5-41D2-B800-E9CF399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2DD13-8DB6-4AEA-A80C-917F5BC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9789A-B1FD-41EB-B65F-00F35E3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A434DB-BD33-4C29-ABE6-810B70A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64B-A2CC-48B5-A082-FC5DD6E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A215C-4304-45DB-B04B-7A91A9A0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6C64B-89E2-426F-87A6-D501204B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F3BF1-6B65-44F5-8740-0CD4ED4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446BE-C097-41C1-BBDF-CB9727F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573F6-C42A-4F2E-83FB-B42B2B0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46C89-B770-4471-AE94-C07A28FE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31FD3-FE08-4157-9DF8-1EC84B4B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89323-AA2D-4292-AC98-9BFA245D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98BC7-F32A-44E1-860D-8881D63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9D786-970B-4C72-9A0D-8ECAD22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84F-81C6-4D62-B469-9B638AF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87A12-50A4-4EC4-A3C2-FA5FA5F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56871-DF9B-4549-AD24-7D7E7E01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F5667-9B3D-4DDF-BBBD-EFF9AD0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12B81-9CCE-408E-9FE6-AB77B68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EF5405-6A22-49F9-91C6-09F2D9F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20104-307D-4081-9751-26FF8FB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ED60D-1BEC-4626-BE47-0778ECC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5D3B4-3F4C-4643-BEB7-ABF2A743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FA740-A55C-4513-AA13-A19E5B3A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ED19B-CE9D-483A-8CA2-E694DEC8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B959-E824-41C6-ABED-1F746E6B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EBB25-CEE0-4935-9D82-8C6AFB4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30F28-5CB4-4D68-9409-5A68414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F3FBA-9D9E-4246-B479-C8A79B4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34B4E-1E1B-4431-96E3-22CC1FB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CD691-D443-41EA-894A-42BEF3AA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BD7A9-7E38-4545-93D2-9630760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B6B50-CB71-4BAD-8F9B-BF43CD4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C9C8E-453A-4589-A4E7-9C0EE56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65179-BAE0-410B-9085-3ED0E526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3D79B-9CBA-4BF3-BF9F-5165D834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5F4D-57F1-4083-9CE8-461883AC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21659-2967-4A4E-963B-C5B62D7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32ED8-0AA9-4CDB-872F-0B6DE713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74287-9660-43A7-A952-B511EAE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9EBC8-C9B0-423C-B411-6B813B1B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A4291-B819-47A3-B596-0655FD70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DA373-A53C-4950-83CA-79AC35A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9AF68-40AB-4CD0-A41C-FCD6E993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F8BDF-40B0-4110-8B89-7610CCD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A8B74-F683-4048-A1EE-56A4699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A735E-B3FE-410D-B798-A3E2AF1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F997-CEB4-42FA-B1D1-8E46F300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C552D-5177-4228-B620-C8F07D2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A3655-01A6-4446-9E65-1A4F0B4A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2A276-83E1-4E38-A455-356AB2A9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47A7A5-5E8A-47BA-98C6-ED4D2596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BCA289-108C-40F7-96B7-4770750D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6E4408-9BD3-4145-8759-DE52A81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B2077-534B-4B54-923C-98EA18C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8F140-3FE2-496D-B134-7A240D6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629FA5-B2EE-4AE6-8566-08C517FA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F6E43-8E60-4F73-A0A0-6232D95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CF1F-3937-4CDC-A282-C2F921F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CB4FB-A9D3-4078-B8C1-947BF47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7EBDE-B68B-48E3-BFF2-D5EFE8A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C6AB79-7135-4D24-94BD-1FA81E2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0B243-1F6D-4CCF-A6E2-AAD83E85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BEEEB-951A-43D0-BDD8-07B2718E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99B09-8DBB-44F2-8E09-4604C332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6B92B-48D9-4D08-8C52-F4F457A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3B3339-CE78-4E1C-90AA-DE8FEF9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208E68-2466-4E44-BE12-82526CBE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38AAB-5DD6-4681-A08D-4613DD31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EC22-CF6A-454F-A254-5357E374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471ADB-B1CB-49BC-8B2B-F071B92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9ED33-85EB-47F3-9657-D4E90A3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966368-FB22-48E6-AB26-3215788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956B1-FA45-4F74-87B6-1D29246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07191-5D7B-4B37-AA13-E205D62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C4213-C043-4CEC-B262-655CF12A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A32C3D-15A2-43B6-BE3E-3E54BC92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8EDC10-4913-4AC7-BD9F-2934BE9F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8D2959-5C8C-47AD-8842-680BFF4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B85E15-DAF3-4090-A0C2-31A8582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B910-A983-43F2-AC99-ACD1745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F2717B-B797-4E15-A692-48D1D8A0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6BF159-E02D-40E8-A189-CCE8D45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B52290-5273-4232-9C49-1DF5A0F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6996E2-7E3B-4FC2-B60F-F776424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D2922B-D68C-47D9-8CF8-F4D8C06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08AD64-2070-488B-A167-00BF76F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96356-CDBA-451A-98FC-BD329A1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394B9-DC64-45D8-BB09-2E45E0E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B3135B-0305-42BC-B179-71E9F62F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2BDB3-BB24-4C89-9F69-A07ACB48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F40B-CD70-4298-9C0E-3FF1D3ED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15D8D4-EA1C-444A-8D6F-26EE228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240B8A-1333-4369-BD53-E59967D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C7BA04-2331-45D7-B7A7-0F3113D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FC3A64-3F9C-4318-B4FD-70AB8BFF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70D7D-45F6-442B-8AAB-0289F745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D40777-FAD7-4BDD-A882-1D89BE3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A90D7-089F-4362-B0B9-11B3F54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68B70-084F-482E-AFD0-C2ED60A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86FD98-4D71-4106-9865-A4A96FEC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FD6A8-96C4-46C8-93CF-73240C66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DD1-FAD5-49C4-A563-4EC93542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3BC4-E2B2-4719-9343-355B220E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A16BD3-B895-47AD-8260-BB59FB5B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D1C8C3-AE54-4135-8CF2-2844851F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7C53DD-2771-4FB8-87D1-8B38638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A7CEFC-B188-4669-B120-B44DC2E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424DE2-D2E3-4175-813B-DF361A4C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B3A972-BC2F-4628-8B36-ADC58B1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B27B0B-51D6-4E5D-BB50-7ACE0D43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77DF7C-437A-491A-8B37-A267A0F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CFF8C1-FA27-4A1C-BE9B-E48DC69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225E00-117C-47F9-9FE7-2DDA301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DB61-3937-4A52-9872-D55E7DA3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8083FA-C276-4118-A053-F6BFDE4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FE2E40-A61B-4AB7-8E63-47185572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3F1D9A-11E9-4681-B152-BF2B221C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A4EAE7-2D38-4222-A6A2-33691C55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3EDE03-FC77-4FBE-90C6-9FBBF88B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DCFF2F-B706-4EBB-9ADE-57B612B7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FC844-D0B4-4DBD-8084-8685C9FA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04D1CC-612D-4CEB-B29D-68AD1548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98475E-A886-4E15-8456-D4F7109B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328D67-1175-4B01-AB5C-FEC8495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7E3B-985C-4245-9123-B39D45F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ACC85F-7229-4D31-978E-5252EEE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B75FE3-7F56-48D0-890F-3834216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A275B-59C1-418F-AF00-1BBE520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F8FDC1-5122-442B-A947-10AE5E96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B9EA1A-1B47-44DA-B138-F8C27159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4DB0D9-6015-4843-9B32-A1901271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5CEE59-9C5A-4895-8A0A-D98095E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CEEAA3-AE78-43FF-BC8F-B45580F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3A3705-6045-48D0-8D19-53DD7211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EC062C-DF3C-42F0-ABB5-5453985D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7590-01AE-4FBF-8667-C7ECDBF3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911DD2-152A-40F8-ADBF-F32AF54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253394-9E22-49C8-AF67-C24FAF5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957DAE-0481-4F8F-B43B-4677EE8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9B11AB-2623-4F3B-85E8-B66EE67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33526-60CB-44E1-B220-1CD2CDEF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443668-427D-428E-A3B6-F4DCD962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D0794E-5E7F-45FA-BAD1-93B1C6EC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E146BA-0A46-4ADC-9FCF-5DE8F77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719A0F-B483-4CE8-B6DD-2A0A0CBF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3341BC-BBDA-4EE5-BEDC-2D56348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6BF5-159E-4C81-85D1-126F38C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EC87DE-4B2B-4B65-BD7E-A78CD889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368570-7757-491C-B4F0-D9201349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4D6A26-CA29-4F65-BB11-DF74C5E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E26FCB-4135-4FCF-8D56-B89F7C0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D15C47-DE7A-4E35-AAFE-C2B6F74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52A644-3CAF-4EE1-9F54-94E5D76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D54FF9-9ECF-444C-B61F-892EB32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9AE308-23AE-4FF5-9415-31DA7C0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3EB45-52A1-4B2F-A496-06397178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33270D-1D62-4F59-9BFC-C26DCA10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7A74-11F3-46F9-88F4-5F4E5E02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60A03B-E4D6-448C-A742-BB4521A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4A5D6C-9E1B-41DD-9D46-805D73A6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CD3336-1760-45DE-B8FF-62D80C0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D27CAA-60F5-4ED1-8964-C47D7CC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88FDE9-B467-482A-8C1A-13B29B91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6E17BE-93CD-47DC-A238-3C478D0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9C9D64-C1EC-4580-AF94-6C05AC3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B418B0-624F-41B4-B9E3-364225DD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1F5A55-61A1-4BDE-9471-13CD7844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77E0E-45E8-442C-809B-385EF814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C5C2-8B44-43BE-8787-3C645988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B536C-2389-4FAC-857A-831AB7B6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178E3E-6D7D-409C-81C1-0E720DC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307B5D-A0B3-497A-B745-1038ABF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19AD74-3ADE-489F-8FBF-41E978D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4F705A-AE28-40F4-874E-77CEAF8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130F16-B294-4A87-B388-F859D71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2B01F2-175F-4F2A-9DCE-A375AAB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94215-CC1F-4295-8580-3B4F342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D1F4C2-6E45-4C36-907A-294B95C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07C422-0B02-43B3-A120-26714E9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2EC2-CAEA-4052-AF54-496D1735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A5A0D1-1547-406C-BA5F-8C67C0F9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463217-51A9-452F-9EA2-5ADCBCF1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137128-051A-40D7-B62D-F01FDE62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B6F1-4ECD-4D4E-8690-0CCC21B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8FED-69A1-43A2-AAC6-946279B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271-32DE-4DC1-9E04-B7D8FA4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9755-68DB-45EE-AE47-6BFA6A40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1AC1-5163-4F2C-9B37-E04D1C3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761F-8A46-4662-84C8-C917F67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D3B0-1400-4F05-9E22-75030080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2E75-D846-44FE-93BA-CBC7FE3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D9DB-1124-41C9-92D4-C0B785D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D6B6-027B-4815-A687-6DF196E3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B5F6-3BA4-4CDB-BB46-4C0B1659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976F-0662-4AE1-B004-18B85154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634D-41DF-442C-A67F-C04A8141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B2A-4D01-42B7-9556-375C6F6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EDBB-472E-4A05-9ED1-679D74D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B35D-2E61-464E-9995-FE972FD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740FF-FDF3-4447-919B-1923F47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9993C-4B1E-42C0-B66E-FFC3FD8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EEA3-6701-48FD-935A-A1B7232B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B3C8-1294-431C-B49D-97B4B07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05E7-74DE-43E2-BFAA-6B05733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5B14-1160-4186-8404-421AD42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51CC-8623-44DA-911C-40146DD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4606-8F0F-4828-977D-815D4B91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020-FDCB-4E0A-93E5-3F87C04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2D1A-B4FB-40A1-AE89-72C0C1ED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3D33-3340-4C69-909A-ACE65A6B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17C9-FE96-4EBF-AB2A-E2FD529E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9B8F-45AF-4538-B034-426FA2A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61BB-D8BB-400A-8B8F-6B1A8BA2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1751-39AB-41D5-97EE-CBB600A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ED1BE-9B75-4EFF-9EFA-4083EBC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BA70-CC97-4047-8766-4E93AD8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90F3-C835-48ED-9FB4-150B9028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A6A1-1B7F-4028-B433-3B5CB76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6B2-C30F-4C5E-8A1D-D85D64E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ECE4-49F7-42BF-98A0-0729FC21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0EBB-DAF4-4B72-ABE5-7D90D506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B65F-A8B8-4B00-B5B2-EF4E87B3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83CAE-D375-4BFB-9E91-2AD0731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06A33-BBD8-4B47-B75A-ADC71DD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4599-FDA4-429F-B097-5E09D2C4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DD52-3A30-459E-8B58-09EEA58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9AFF-6FB2-4ED1-B6CE-58F2A123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AB51-D24C-4FFE-84D8-9827F655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E1DE-F1EB-4F55-AE2F-A8A172F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85E-98AB-4DD2-8D28-C9A2C40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E85D-CE60-4D64-8E45-E06D0737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5D007-A11B-4755-9D50-A821327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24ED-2059-4C78-BA2D-1B6AFD9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EF2D7-2E1D-40C4-A666-D17D6DC9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CB54-15A3-41DB-8F3F-880C6A56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D37C-5B39-4E70-BFBD-08610D01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AB09-56D9-4E78-B7B1-82BFA65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ACF5-A4F1-4AFD-B822-7180FB3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A7CD-8AAB-420B-B868-91C10C6D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629B-D4BC-4D9D-B1A2-EBB573D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0F6-CE14-4951-A543-816C2E9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D8E4-F944-4D10-87BB-2C11A85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51B1-15D0-4437-9E46-445EE94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97476-9A02-46CA-B7B0-E87D755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4F26-2BE7-4950-9345-F793474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36A8-18A6-4C78-ADF9-A62C5DD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2B64-89EA-4202-A4BA-C54F7A31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EB67-16EC-4FBD-91BF-625A6848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E2C8F-0D32-420F-92D5-6A980CF1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A89E-D43D-491D-97EC-E6EA2E5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17552-656B-4A3B-AF77-1B0A5231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A26-E72C-46EF-A171-4DB56111D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7FA-370C-4CC9-87A4-7CDC44115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72DB-E63A-4BF0-8DE0-FBD771BBC0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A518-DC9D-4CC9-9EFA-14C1572D3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510C-1DD9-4C13-99D2-4F5284D42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D61-82E8-4C4B-80E8-8FA1504D0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21AB-77DE-4045-9087-80A7D09A0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3D1-9208-40DD-BCC0-4B8951540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802A-EB13-4F58-A433-24A5624BB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780-5D8F-47A5-BE4E-DA6C937F4D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3F3-E919-4C9C-8C54-7DC438D85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969-55B9-4601-9701-8E810511F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C2FF-BFA0-4415-B689-DC982A6C5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06F-BADA-4942-B9AA-A86C89471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61EB-4E05-4D84-BB84-2860A020A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EF76-7EE0-41C5-8B64-C86935638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01E3-A16E-4BAC-95F1-F741C54458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7FC-7CB2-490E-A4F7-CC5DADEC7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0364-038F-40DA-AAFA-562CA82C5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0F7-47D2-476C-B68C-EB22F0A5A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C5F-79DE-4F6F-B4A0-579333898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5FC-C3A7-4C6D-8746-02D054BE7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BA4-FF83-4192-8712-207ED2CC9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E13-9740-4D89-A1F6-3D77CC1D4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5674-E20F-4688-955D-EF8FBB2F9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C49-3144-4F02-ABA1-1F6EC069C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B718-B37B-404D-95E5-04B558DC4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0E6-B727-4A54-B122-462E73CD8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62CF-12EB-47C0-A477-417B5C2F6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8C3-8B8D-4432-B9F1-B4EEE518C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1F9-0A1B-41CE-8C57-7211E0DC8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819-EE0A-404E-A5C6-134A5BA3A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B186-619E-40F4-B8FA-D4EA8E3E7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AD7-312A-4145-BEC6-12DFB8C44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CAB9-833F-45BC-B6E4-59B68D67C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BFCC-CA85-4173-BF94-89DFB9B5F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1DA-FF2F-43E3-8398-24B7DD378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6F4-DD7A-4E1A-8667-45577DED9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CD7-F514-4E68-AAF5-4A83E81E6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23FF-A567-4B96-9AB8-A918EE714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766-285C-4D08-B709-346AE0A6B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151-3E6F-4486-990F-6E04088C3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A7D-CD7F-4381-8E7C-91F6286D4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BCE-ABC9-4B1D-8E0F-FD892C8B3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B42-ED91-4FE5-AB43-D1A23A6E7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37BA-0184-401F-AAD5-4D5F58510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327-387F-4531-A8E1-2333168B41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1256-0F23-47F1-850A-787ACD7A0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FC1-A096-4F33-92F5-009C0F2CEC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219-25EE-4AEC-8108-3448949D5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971720" y="2881440"/>
            <a:ext cx="5200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79873" descr=""/>
          <p:cNvPicPr/>
          <p:nvPr/>
        </p:nvPicPr>
        <p:blipFill>
          <a:blip r:embed="rId1"/>
          <a:stretch/>
        </p:blipFill>
        <p:spPr>
          <a:xfrm>
            <a:off x="538200" y="1852560"/>
            <a:ext cx="8067600" cy="3152880"/>
          </a:xfrm>
          <a:prstGeom prst="rect">
            <a:avLst/>
          </a:prstGeom>
          <a:ln w="0">
            <a:noFill/>
          </a:ln>
        </p:spPr>
      </p:pic>
      <p:sp>
        <p:nvSpPr>
          <p:cNvPr id="1450" name="矩形 79874"/>
          <p:cNvSpPr/>
          <p:nvPr/>
        </p:nvSpPr>
        <p:spPr>
          <a:xfrm>
            <a:off x="4954680" y="2889360"/>
            <a:ext cx="769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79875"/>
          <p:cNvSpPr/>
          <p:nvPr/>
        </p:nvSpPr>
        <p:spPr>
          <a:xfrm>
            <a:off x="2773440" y="3927600"/>
            <a:ext cx="77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8849" descr=""/>
          <p:cNvPicPr/>
          <p:nvPr/>
        </p:nvPicPr>
        <p:blipFill>
          <a:blip r:embed="rId1"/>
          <a:stretch/>
        </p:blipFill>
        <p:spPr>
          <a:xfrm>
            <a:off x="509760" y="1886040"/>
            <a:ext cx="8124480" cy="308592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8850"/>
          <p:cNvSpPr/>
          <p:nvPr/>
        </p:nvSpPr>
        <p:spPr>
          <a:xfrm>
            <a:off x="4964040" y="2889360"/>
            <a:ext cx="6159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78851"/>
          <p:cNvSpPr/>
          <p:nvPr/>
        </p:nvSpPr>
        <p:spPr>
          <a:xfrm>
            <a:off x="5573880" y="3927600"/>
            <a:ext cx="6159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77825" descr=""/>
          <p:cNvPicPr/>
          <p:nvPr/>
        </p:nvPicPr>
        <p:blipFill>
          <a:blip r:embed="rId1"/>
          <a:stretch/>
        </p:blipFill>
        <p:spPr>
          <a:xfrm>
            <a:off x="452520" y="1647720"/>
            <a:ext cx="8238960" cy="35625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77826"/>
          <p:cNvSpPr/>
          <p:nvPr/>
        </p:nvSpPr>
        <p:spPr>
          <a:xfrm>
            <a:off x="7812000" y="42418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7680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53640" cy="159084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76802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7572600" cy="2590560"/>
          </a:xfrm>
          <a:prstGeom prst="rect">
            <a:avLst/>
          </a:prstGeom>
          <a:ln w="0">
            <a:noFill/>
          </a:ln>
        </p:spPr>
      </p:pic>
      <p:sp>
        <p:nvSpPr>
          <p:cNvPr id="1459" name="矩形 76803"/>
          <p:cNvSpPr/>
          <p:nvPr/>
        </p:nvSpPr>
        <p:spPr>
          <a:xfrm>
            <a:off x="1430280" y="397512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6804"/>
          <p:cNvSpPr/>
          <p:nvPr/>
        </p:nvSpPr>
        <p:spPr>
          <a:xfrm>
            <a:off x="2544840" y="448956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6805"/>
          <p:cNvSpPr/>
          <p:nvPr/>
        </p:nvSpPr>
        <p:spPr>
          <a:xfrm>
            <a:off x="2182680" y="5051520"/>
            <a:ext cx="8049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89089" descr=""/>
          <p:cNvPicPr/>
          <p:nvPr/>
        </p:nvPicPr>
        <p:blipFill>
          <a:blip r:embed="rId1"/>
          <a:stretch/>
        </p:blipFill>
        <p:spPr>
          <a:xfrm>
            <a:off x="461880" y="2176560"/>
            <a:ext cx="8220240" cy="25048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89090"/>
          <p:cNvSpPr/>
          <p:nvPr/>
        </p:nvSpPr>
        <p:spPr>
          <a:xfrm>
            <a:off x="4230720" y="4156200"/>
            <a:ext cx="988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9011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0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1137" descr=""/>
          <p:cNvPicPr/>
          <p:nvPr/>
        </p:nvPicPr>
        <p:blipFill>
          <a:blip r:embed="rId1"/>
          <a:stretch/>
        </p:blipFill>
        <p:spPr>
          <a:xfrm>
            <a:off x="723960" y="1619280"/>
            <a:ext cx="7696080" cy="361944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1138"/>
          <p:cNvSpPr/>
          <p:nvPr/>
        </p:nvSpPr>
        <p:spPr>
          <a:xfrm>
            <a:off x="3782880" y="2098800"/>
            <a:ext cx="39578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1139"/>
          <p:cNvSpPr/>
          <p:nvPr/>
        </p:nvSpPr>
        <p:spPr>
          <a:xfrm>
            <a:off x="6907320" y="313704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1140"/>
          <p:cNvSpPr/>
          <p:nvPr/>
        </p:nvSpPr>
        <p:spPr>
          <a:xfrm>
            <a:off x="7678800" y="4184640"/>
            <a:ext cx="709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91141"/>
          <p:cNvSpPr/>
          <p:nvPr/>
        </p:nvSpPr>
        <p:spPr>
          <a:xfrm>
            <a:off x="1487520" y="4680000"/>
            <a:ext cx="8524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2161" descr=""/>
          <p:cNvPicPr/>
          <p:nvPr/>
        </p:nvPicPr>
        <p:blipFill>
          <a:blip r:embed="rId1"/>
          <a:stretch/>
        </p:blipFill>
        <p:spPr>
          <a:xfrm>
            <a:off x="752400" y="2114640"/>
            <a:ext cx="7639200" cy="262872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2162"/>
          <p:cNvSpPr/>
          <p:nvPr/>
        </p:nvSpPr>
        <p:spPr>
          <a:xfrm>
            <a:off x="3106800" y="41562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3185" descr=""/>
          <p:cNvPicPr/>
          <p:nvPr/>
        </p:nvPicPr>
        <p:blipFill>
          <a:blip r:embed="rId1"/>
          <a:stretch/>
        </p:blipFill>
        <p:spPr>
          <a:xfrm>
            <a:off x="542880" y="1590840"/>
            <a:ext cx="805824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4209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25080" cy="30481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94210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7010280" cy="1038240"/>
          </a:xfrm>
          <a:prstGeom prst="rect">
            <a:avLst/>
          </a:prstGeom>
          <a:ln w="0">
            <a:noFill/>
          </a:ln>
        </p:spPr>
      </p:pic>
      <p:sp>
        <p:nvSpPr>
          <p:cNvPr id="1475" name="矩形 94211"/>
          <p:cNvSpPr/>
          <p:nvPr/>
        </p:nvSpPr>
        <p:spPr>
          <a:xfrm>
            <a:off x="3135240" y="148896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4212"/>
          <p:cNvSpPr/>
          <p:nvPr/>
        </p:nvSpPr>
        <p:spPr>
          <a:xfrm>
            <a:off x="5668920" y="2003400"/>
            <a:ext cx="257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4213"/>
          <p:cNvSpPr/>
          <p:nvPr/>
        </p:nvSpPr>
        <p:spPr>
          <a:xfrm>
            <a:off x="1411200" y="2546280"/>
            <a:ext cx="23688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4214"/>
          <p:cNvSpPr/>
          <p:nvPr/>
        </p:nvSpPr>
        <p:spPr>
          <a:xfrm>
            <a:off x="5487840" y="4622760"/>
            <a:ext cx="11001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10520" cy="35910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27082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5233" descr=""/>
          <p:cNvPicPr/>
          <p:nvPr/>
        </p:nvPicPr>
        <p:blipFill>
          <a:blip r:embed="rId1"/>
          <a:stretch/>
        </p:blipFill>
        <p:spPr>
          <a:xfrm>
            <a:off x="762120" y="2652840"/>
            <a:ext cx="7619760" cy="155232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5234"/>
          <p:cNvSpPr/>
          <p:nvPr/>
        </p:nvSpPr>
        <p:spPr>
          <a:xfrm>
            <a:off x="1744560" y="3089160"/>
            <a:ext cx="160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5235"/>
          <p:cNvSpPr/>
          <p:nvPr/>
        </p:nvSpPr>
        <p:spPr>
          <a:xfrm>
            <a:off x="3478320" y="36036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96257" descr=""/>
          <p:cNvPicPr/>
          <p:nvPr/>
        </p:nvPicPr>
        <p:blipFill>
          <a:blip r:embed="rId1"/>
          <a:stretch/>
        </p:blipFill>
        <p:spPr>
          <a:xfrm>
            <a:off x="490680" y="1633680"/>
            <a:ext cx="81626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97281" descr=""/>
          <p:cNvPicPr/>
          <p:nvPr/>
        </p:nvPicPr>
        <p:blipFill>
          <a:blip r:embed="rId1"/>
          <a:stretch/>
        </p:blipFill>
        <p:spPr>
          <a:xfrm>
            <a:off x="1314360" y="1833480"/>
            <a:ext cx="6515280" cy="31910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97282"/>
          <p:cNvSpPr/>
          <p:nvPr/>
        </p:nvSpPr>
        <p:spPr>
          <a:xfrm>
            <a:off x="1382760" y="1851120"/>
            <a:ext cx="31892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97283"/>
          <p:cNvSpPr/>
          <p:nvPr/>
        </p:nvSpPr>
        <p:spPr>
          <a:xfrm>
            <a:off x="1363680" y="2421000"/>
            <a:ext cx="529596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7284"/>
          <p:cNvSpPr/>
          <p:nvPr/>
        </p:nvSpPr>
        <p:spPr>
          <a:xfrm>
            <a:off x="1449360" y="3346560"/>
            <a:ext cx="2401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7285"/>
          <p:cNvSpPr/>
          <p:nvPr/>
        </p:nvSpPr>
        <p:spPr>
          <a:xfrm>
            <a:off x="1373040" y="3851280"/>
            <a:ext cx="5791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7286"/>
          <p:cNvSpPr/>
          <p:nvPr/>
        </p:nvSpPr>
        <p:spPr>
          <a:xfrm>
            <a:off x="1908000" y="4365720"/>
            <a:ext cx="230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98306" descr=""/>
          <p:cNvPicPr/>
          <p:nvPr/>
        </p:nvPicPr>
        <p:blipFill>
          <a:blip r:embed="rId1"/>
          <a:stretch/>
        </p:blipFill>
        <p:spPr>
          <a:xfrm>
            <a:off x="500040" y="1405080"/>
            <a:ext cx="81439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99330" descr=""/>
          <p:cNvPicPr/>
          <p:nvPr/>
        </p:nvPicPr>
        <p:blipFill>
          <a:blip r:embed="rId1"/>
          <a:stretch/>
        </p:blipFill>
        <p:spPr>
          <a:xfrm>
            <a:off x="766800" y="1790640"/>
            <a:ext cx="7610400" cy="32767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99331"/>
          <p:cNvSpPr/>
          <p:nvPr/>
        </p:nvSpPr>
        <p:spPr>
          <a:xfrm>
            <a:off x="1403280" y="1700280"/>
            <a:ext cx="1152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9332"/>
          <p:cNvSpPr/>
          <p:nvPr/>
        </p:nvSpPr>
        <p:spPr>
          <a:xfrm>
            <a:off x="826920" y="1989000"/>
            <a:ext cx="3816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99333"/>
          <p:cNvSpPr/>
          <p:nvPr/>
        </p:nvSpPr>
        <p:spPr>
          <a:xfrm>
            <a:off x="760320" y="2465280"/>
            <a:ext cx="5467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99334"/>
          <p:cNvSpPr/>
          <p:nvPr/>
        </p:nvSpPr>
        <p:spPr>
          <a:xfrm>
            <a:off x="703440" y="3008160"/>
            <a:ext cx="39398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99335"/>
          <p:cNvSpPr/>
          <p:nvPr/>
        </p:nvSpPr>
        <p:spPr>
          <a:xfrm>
            <a:off x="755640" y="3500280"/>
            <a:ext cx="669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99336"/>
          <p:cNvSpPr/>
          <p:nvPr/>
        </p:nvSpPr>
        <p:spPr>
          <a:xfrm>
            <a:off x="765000" y="4091040"/>
            <a:ext cx="488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9337"/>
          <p:cNvSpPr/>
          <p:nvPr/>
        </p:nvSpPr>
        <p:spPr>
          <a:xfrm>
            <a:off x="755640" y="4595760"/>
            <a:ext cx="7056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00353" descr=""/>
          <p:cNvPicPr/>
          <p:nvPr/>
        </p:nvPicPr>
        <p:blipFill>
          <a:blip r:embed="rId1"/>
          <a:stretch/>
        </p:blipFill>
        <p:spPr>
          <a:xfrm>
            <a:off x="719280" y="1719360"/>
            <a:ext cx="7705440" cy="341928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00354"/>
          <p:cNvSpPr/>
          <p:nvPr/>
        </p:nvSpPr>
        <p:spPr>
          <a:xfrm>
            <a:off x="963720" y="1784520"/>
            <a:ext cx="34639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0355"/>
          <p:cNvSpPr/>
          <p:nvPr/>
        </p:nvSpPr>
        <p:spPr>
          <a:xfrm>
            <a:off x="754200" y="2349360"/>
            <a:ext cx="705780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0356"/>
          <p:cNvSpPr/>
          <p:nvPr/>
        </p:nvSpPr>
        <p:spPr>
          <a:xfrm>
            <a:off x="900000" y="3213000"/>
            <a:ext cx="7559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0357"/>
          <p:cNvSpPr/>
          <p:nvPr/>
        </p:nvSpPr>
        <p:spPr>
          <a:xfrm>
            <a:off x="833400" y="3736800"/>
            <a:ext cx="50338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0358"/>
          <p:cNvSpPr/>
          <p:nvPr/>
        </p:nvSpPr>
        <p:spPr>
          <a:xfrm>
            <a:off x="843120" y="4308480"/>
            <a:ext cx="71848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480960" y="947880"/>
            <a:ext cx="8182080" cy="49622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831080" y="10414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14440" y="1052640"/>
            <a:ext cx="8115120" cy="47527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4154400" y="2679840"/>
            <a:ext cx="43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480960" y="1228680"/>
            <a:ext cx="8182080" cy="440064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7812000" y="2276640"/>
            <a:ext cx="43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09760" y="1100160"/>
            <a:ext cx="8124480" cy="465768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812000" y="220356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3971"/>
          <p:cNvSpPr/>
          <p:nvPr/>
        </p:nvSpPr>
        <p:spPr>
          <a:xfrm>
            <a:off x="7792920" y="478476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2945" descr=""/>
          <p:cNvPicPr/>
          <p:nvPr/>
        </p:nvPicPr>
        <p:blipFill>
          <a:blip r:embed="rId1"/>
          <a:stretch/>
        </p:blipFill>
        <p:spPr>
          <a:xfrm>
            <a:off x="485640" y="1347840"/>
            <a:ext cx="8172720" cy="41623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2946"/>
          <p:cNvSpPr/>
          <p:nvPr/>
        </p:nvSpPr>
        <p:spPr>
          <a:xfrm>
            <a:off x="7736040" y="1413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1921" descr=""/>
          <p:cNvPicPr/>
          <p:nvPr/>
        </p:nvPicPr>
        <p:blipFill>
          <a:blip r:embed="rId1"/>
          <a:stretch/>
        </p:blipFill>
        <p:spPr>
          <a:xfrm>
            <a:off x="523800" y="1452600"/>
            <a:ext cx="8096400" cy="39528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1922"/>
          <p:cNvSpPr/>
          <p:nvPr/>
        </p:nvSpPr>
        <p:spPr>
          <a:xfrm>
            <a:off x="7773840" y="20224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0897" descr=""/>
          <p:cNvPicPr/>
          <p:nvPr/>
        </p:nvPicPr>
        <p:blipFill>
          <a:blip r:embed="rId1"/>
          <a:stretch/>
        </p:blipFill>
        <p:spPr>
          <a:xfrm>
            <a:off x="642960" y="2181240"/>
            <a:ext cx="7858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6:51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